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096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160" y="701640"/>
            <a:ext cx="466884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096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5D64-CE90-4A2E-BFD6-D7F903AC5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F93D-44CC-4F77-8234-955808BE8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AA9D-D02D-4506-B0B5-196B7F82B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9BF1-6397-48D6-9C99-7A9B0CCC1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909D-3D0C-4418-B165-5813E2BAA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0D53-40D7-4DE8-9A8F-15A3C0684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D5A8-7F26-40E2-A54C-063632177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B117-4409-49B9-9897-CA44F0F7C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EEA1-40F2-42BB-BCC9-4456C37EE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76ED-3038-4CBE-846C-0BF64434D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0C71-BEBC-4DFA-8B7B-24D18724B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55D6-D955-4C73-9A6A-764FD681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E46B-3B67-4106-8311-1A83E97FB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64A2-2C8C-4A4D-90E8-9E88FFCEE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B6BE-AA23-4049-8532-BB41F9AC5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DF09-E6B5-4E2B-BE2A-88257E4B8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FE2E-00C7-455E-982F-2F1958B5D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CEA-E216-4260-9EDD-DAE032B1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6F2-9D68-4FA8-9B8E-3709AF33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F13-A083-4C09-99CA-4A8CC377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310-D38F-4125-BCEF-F4B3ABDA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40B-99A9-4F22-A6D3-8D851ECE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6CDE-A207-4DE9-BFE4-589A1581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78B-40DE-4C35-8A43-5644FC26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04E-86C8-4A71-97D4-80E93A60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1EF-15AD-425E-9D19-B034861C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F6E-6D5F-4902-9FA1-79F4930E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07D-5F48-4AD3-B7DE-8902E049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60A-2EC3-4718-964E-7B71C642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4C27-68F0-4E89-ABF4-B634E150E7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Theme 5: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Nutrition, food storage, value addition and mycotoxin management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 Mahama Saaka (P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 of Allied Health Sciences- Ta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d monthly GMP sessions held in 25 programme commun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community durbars on quarterly basis to demonstrate how to prepare enriched energy- and nutrient- rich dishes with local ingredients (cereals, legumes, eggs, and vege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nuscripts have been published in peer review 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ooklet on child malnutrition in northern Ghana has also been p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line information now available on aflatoxins levels and prevalence in maize and peanut in the intervention z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ority strategies have been identified  to be incorporated into work plan of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 Description of the Community Intervention Tri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ctivities carried out were part of a package designed to test the hypothesis that nutrition  behaviour change communication (BCC) combined with nutrition sensitive agricultural interventions will better promote the production and consumption of diverse and nutrient-rich f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 Description of the Community Intervention Trial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 of 400 moderate to severe malnourished children aged 6-36 months were randomly assigned to one of the following treat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umes, Vegetables and Livestock 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umes, Vegetables and Livestock + Nutrition BC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groups of intervention communities received nutrition sensitive agricultural interventions including production of nutrient-dense crops (cowpea, soybean, groundnut, vegetables) and/or rearing of small ruminan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as, the comparison communities received only the agricultural interventions, the intervention communities received additional nutrition BCC through community Growth Monitoring and Promotion (GMP) and reinforced through home visits peer counsel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utcome of the trial is currently being evalu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s/Challeng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health personnel trained to support and supervise the work of community volunteers have been transferred out of the programme distri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tion households were not provided with the needed support (facilities for rearing livestock such as goats and sheep or guinea-fow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was inadequate funding for Postharvest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should be clear work plan and stability of funding should be streamlined prior to start of programs in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focus of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theme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was to identify and promote the consumption of diverse, micronutrient-rich and safe foods  to improve nutritional outcomes of children, pregnant and nursing m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TA should through inter-sectoral approaches, promote and support diversified production of drought-resistant crops, including fruits &amp; vegetables, and improved breed of small ruminants and poultry at the household and communit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nhance nutrient intake of children throug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novative programme that will stimulate behaviour change towards feeding children with animal source foods (ASF foo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to effectively implement homestead food production (HFP) coupled with nutrition education to increase availability and consumption of micronutrient-rich foods (fruits and vegetables and animal source foods) in poor households may contribute to the nutritional well-being of the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en and harmonize the institutional framework for coordination and capacity to carry out Nutrition-Agriculture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ong advocate for and support integration of nutrition in agricultural programmes at the district and sub-district 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, document and disseminate findings on positive indigenous dietary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ile food composition data for major foods consumed in Norther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proper food handling, hygiene, and sanitation through increased knowledge, use of safe water and hand-washing practices at the household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ed to upscale integrated pre-and-postharvest management strategies to reduce consumer risk i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d nutrition education including demonstration on how to prepare nutrient- rich dishes with local ingredients (cereals, legumes, eggs, and vege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and counseling in optimal maternal nutrition and infant/young child feeding practices through growth monitoring and promotion (GMP) sess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ing monthly GMP sessions to detect children at risk of malnutrition early enough for counseling and nutrition rehabili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rained CHWs  also provi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tri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unsel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home visits to m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essages delivered included  the importance of diversifying diets, nutrition during pregnancy, early and exclusive breastfeeding, the appropriate quantity and quality of complementary foods, personal and environmental hygi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 of a baseline survey on the nutritional status and dietary practices of children in project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ssessment of the dietary intake and nutritional status and household food insecurity situation of pregnant women in project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valuated how the current handling operations influence  postharvest quality, losses and aflatoxin levels</a:t>
            </a:r>
            <a:r>
              <a:rPr b="1" lang="en-I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ff"/>
                </a:solidFill>
                <a:latin typeface="Arial"/>
              </a:rPr>
              <a:t>Determined total aflatoxin levels in peanut samples from  farmer storage units and on-farm research demon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ducted participatory on-farm evaluation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peanut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enotypes for resistance to aflatoxins at 3 multi-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community health workers (CHWs), including members of women’s groups were trained in Infant and Young Child Feeding (IYCF)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weighing scales, infantometers and registers to support community GMP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30:10Z</dcterms:created>
  <dc:creator>Amy</dc:creator>
  <dc:description/>
  <dc:language>en-US</dc:language>
  <cp:lastModifiedBy>mahama Saaka</cp:lastModifiedBy>
  <dcterms:modified xsi:type="dcterms:W3CDTF">2016-12-12T11:57:21Z</dcterms:modified>
  <cp:revision>1567</cp:revision>
  <dc:subject/>
  <dc:title>Gastroenteritis at a University in Texas</dc:title>
</cp:coreProperties>
</file>